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B88-1791-4F4E-8E1B-55DF76C8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11B-B125-4FB7-AE8D-4F63D468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4B5-5C18-49EA-956D-3C90BFFE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924-7F98-4D12-9AAD-D9CCBD82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CE8D-EFC8-4E6E-BB3B-4D929F05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2ADC-6169-49CD-8AEC-252A4815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7F12-7654-4209-8B0D-E089CD44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A52C-411E-4878-8C58-EB17A88A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ECCB-7C55-4DE1-988B-F96A677F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28EE-58FA-4B1D-88BC-CED153A2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C1A4-83CA-4BE3-B460-E1C50774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BF7-5741-4B94-A685-33FC83A0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9732-EDFB-41CB-8018-92892FDC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5638-DA75-4F73-A09D-D39F5D1A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E5C1-5A77-45B3-BA12-F1344A07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2756-CCE2-4D6B-82C5-D11DE07C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148F-481E-46E7-8851-85B27F49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CA0-2651-4449-8322-3A457A4D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2B4-9D84-430D-ADE6-FF14848C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5B6-B3AE-405C-B0B1-D2F82980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6A3-5B07-4D92-A4B4-ECD6491A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2B0-1A3A-492F-9519-EA5E52B8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6C0-B55C-4306-A0E7-E379DF2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060-0E85-478C-9022-6F40BE83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C779-DA8E-485B-85AB-76A2283863A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1001-2FB0-4F8E-845B-15E918BF43F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292640"/>
            <a:ext cx="6400800" cy="218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يماني ساطع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2000" y="304920"/>
            <a:ext cx="6012000" cy="1054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بيتكسَّ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بيتعب 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هما تأخر جاي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بيضيع اللي جاي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ا غفله بيوصَل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قلب</a:t>
            </a:r>
            <a:r>
              <a:rPr b="1" lang="ar-LB" sz="83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ضوّ من خَلف الغيم،</a:t>
            </a:r>
            <a:r>
              <a:rPr b="1" lang="ar-SA" sz="8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حدا بيعرف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لي جايي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بيبقى جايي. 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32000" y="304920"/>
            <a:ext cx="6012000" cy="1054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بيتكسَّ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بيتعب 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52280"/>
            <a:ext cx="8915400" cy="868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00"/>
                </a:solidFill>
                <a:latin typeface="Times New Roman"/>
                <a:cs typeface="Akhbar MT"/>
              </a:rPr>
              <a:t>أنا إيماني الفرح الوسيع ومن خلف العواصف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00"/>
                </a:solidFill>
                <a:latin typeface="Times New Roman"/>
                <a:cs typeface="Akhbar MT"/>
              </a:rPr>
              <a:t>جايي الربيع</a:t>
            </a:r>
            <a:r>
              <a:rPr b="1" lang="ar-LB" sz="9400" spc="-1" strike="noStrike">
                <a:solidFill>
                  <a:srgbClr val="ffff00"/>
                </a:solidFill>
                <a:latin typeface="Times New Roman"/>
                <a:ea typeface="Akhbar MT"/>
              </a:rPr>
              <a:t> 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8240" y="4319640"/>
            <a:ext cx="8610480" cy="47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imes New Roman"/>
                <a:cs typeface="Akhbar MT"/>
              </a:rPr>
              <a:t>إذا كبـرت أحزان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نسيني العمر التاني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4:17Z</dcterms:created>
  <dc:creator>Charbel Azar</dc:creator>
  <dc:description/>
  <dc:language>en-US</dc:language>
  <cp:lastModifiedBy>-</cp:lastModifiedBy>
  <dcterms:modified xsi:type="dcterms:W3CDTF">2003-01-29T09:43:57Z</dcterms:modified>
  <cp:revision>6</cp:revision>
  <dc:subject/>
  <dc:title>PowerPoint Presentation</dc:title>
</cp:coreProperties>
</file>